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A0E-7DC4-4F7E-B97F-EDF1C8DB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BE6-4169-4459-8BAD-A7DB6209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AD1-56BF-466D-827C-02F4D31C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956-FC13-4C87-AC41-74B2A6BC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9B6-492E-4DC2-80ED-32B85B03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809-BD8B-49B9-B609-B0F55F9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3DC-1F92-4D84-B8D0-4E6F955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79BF-F6AE-4B21-908C-23379861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109080"/>
            <a:ext cx="7470720" cy="47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B89-FCB5-41CE-B37C-F69CE12E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53C-83BE-4D45-9E9E-4F5A9F1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D6E-DF89-4DAC-AC5F-722A1A3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B19-3690-4065-B332-B8ACE9D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109080"/>
            <a:ext cx="7470720" cy="10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27280" indent="-2160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158920" indent="-215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8CAB8-0AFF-4EDB-9FFD-134AA09DB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boMi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0680" y="4716360"/>
            <a:ext cx="249588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06400"/>
            <a:ext cx="90723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A first impression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rogramming with Robo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086600"/>
            <a:ext cx="4035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vid Halma, University of Ams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xtra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ing extra instructions results in less typ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se for instance : </a:t>
            </a:r>
            <a:br>
              <a:rPr sz="3200"/>
            </a:b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repeat(</a:t>
            </a:r>
            <a:r>
              <a:rPr b="1" i="1" lang="en-GB" sz="3200" spc="-1" strike="noStrike">
                <a:solidFill>
                  <a:srgbClr val="9999cc"/>
                </a:solidFill>
                <a:latin typeface="Courier New"/>
              </a:rPr>
              <a:t>number</a:t>
            </a: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){</a:t>
            </a:r>
            <a:r>
              <a:rPr b="1" i="1" lang="en-GB" sz="3200" spc="-1" strike="noStrike">
                <a:solidFill>
                  <a:srgbClr val="9999cc"/>
                </a:solidFill>
                <a:latin typeface="Courier New"/>
              </a:rPr>
              <a:t>instructions</a:t>
            </a:r>
            <a:r>
              <a:rPr b="1" lang="en-GB" sz="3200" spc="-1" strike="noStrike">
                <a:solidFill>
                  <a:srgbClr val="666699"/>
                </a:solidFill>
                <a:latin typeface="Courier New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34340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48776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343400"/>
            <a:ext cx="2971800" cy="2286000"/>
          </a:xfrm>
          <a:prstGeom prst="wedgeRoundRectCallout">
            <a:avLst>
              <a:gd name="adj1" fmla="val -75407"/>
              <a:gd name="adj2" fmla="val -29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squ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690732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0840" y="3909960"/>
            <a:ext cx="2219040" cy="2959200"/>
          </a:xfrm>
          <a:custGeom>
            <a:avLst/>
            <a:gdLst>
              <a:gd name="textAreaLeft" fmla="*/ 360 w 2219040"/>
              <a:gd name="textAreaRight" fmla="*/ 2218680 w 2219040"/>
              <a:gd name="textAreaTop" fmla="*/ 360 h 2959200"/>
              <a:gd name="textAreaBottom" fmla="*/ 2958840 h 2959200"/>
            </a:gdLst>
            <a:ahLst/>
            <a:rect l="textAreaLeft" t="textAreaTop" r="textAreaRight" b="textAreaBottom"/>
            <a:pathLst>
              <a:path w="21600" h="28804">
                <a:moveTo>
                  <a:pt x="15" y="0"/>
                </a:moveTo>
                <a:arcTo wR="15" hR="15" stAng="16200000" swAng="-5400000"/>
                <a:lnTo>
                  <a:pt x="0" y="28789"/>
                </a:lnTo>
                <a:arcTo wR="15" hR="15" stAng="10800000" swAng="-5400000"/>
                <a:lnTo>
                  <a:pt x="21585" y="28804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4019400"/>
            <a:ext cx="25606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0840" y="6953400"/>
            <a:ext cx="10429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Question: Two squ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can you make the robot drive two squar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20040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34476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7120" y="5791320"/>
            <a:ext cx="955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swer: Two Squa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t can be done in several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563920"/>
            <a:ext cx="3200400" cy="2514600"/>
          </a:xfrm>
          <a:prstGeom prst="roundRect">
            <a:avLst>
              <a:gd name="adj" fmla="val 6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08280"/>
            <a:ext cx="343044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563920"/>
            <a:ext cx="3429000" cy="3657600"/>
          </a:xfrm>
          <a:custGeom>
            <a:avLst/>
            <a:gdLst>
              <a:gd name="textAreaLeft" fmla="*/ 360 w 3429000"/>
              <a:gd name="textAreaRight" fmla="*/ 3428640 w 3429000"/>
              <a:gd name="textAreaTop" fmla="*/ 360 h 3657600"/>
              <a:gd name="textAreaBottom" fmla="*/ 3657240 h 3657600"/>
            </a:gdLst>
            <a:ahLst/>
            <a:rect l="textAreaLeft" t="textAreaTop" r="textAreaRight" b="textAreaBottom"/>
            <a:pathLst>
              <a:path w="21600" h="23040">
                <a:moveTo>
                  <a:pt x="10" y="0"/>
                </a:moveTo>
                <a:arcTo wR="10" hR="10" stAng="16200000" swAng="-5400000"/>
                <a:lnTo>
                  <a:pt x="0" y="23030"/>
                </a:lnTo>
                <a:arcTo wR="10" hR="10" stAng="10800000" swAng="-5400000"/>
                <a:lnTo>
                  <a:pt x="21590" y="23040"/>
                </a:lnTo>
                <a:arcTo wR="10" hR="10" stAng="5400000" swAng="-5400000"/>
                <a:lnTo>
                  <a:pt x="21600" y="10"/>
                </a:lnTo>
                <a:arcTo wR="10" hR="1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708280"/>
            <a:ext cx="3430440" cy="33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peat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6629400"/>
            <a:ext cx="7551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99"/>
                </a:solidFill>
                <a:latin typeface="Arial"/>
              </a:rPr>
              <a:t>Less boring than 16 mouseclicks in the remote contr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14368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9600" y="628344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o you know what instructions you're allowed to u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ke: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left(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 don't know in advance. It depends on the rules of the programming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'll have to read the documentation to find this out. There are many different programming langua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is is the end of this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the example scripts to explore the possibi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ercise: program a “dance” for the robot with repeat-loops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ip: Us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eftIsClear(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ightIsClear()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to move the head of the rob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28440"/>
            <a:ext cx="907236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chines and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27000" y="3379680"/>
            <a:ext cx="475956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97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f you want to make a machine, computer or robot work, you have to give it </a:t>
            </a: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structions differ from machine to machine and can be anything. For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deo recorder: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lay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b browser: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go to site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go back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2800" spc="-1" strike="noStrike">
                <a:solidFill>
                  <a:srgbClr val="666699"/>
                </a:solidFill>
                <a:latin typeface="Tahoma"/>
              </a:rPr>
              <a:t>print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Question: What could be instructions for an automatic pilo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Basic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3549600"/>
            <a:ext cx="8893080" cy="323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97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very machine has a set of basic instructions: actions it can perform direct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robot we're going to program has basic instructions 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6485040"/>
            <a:ext cx="1050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43360" y="6485040"/>
            <a:ext cx="814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10400" y="6485040"/>
            <a:ext cx="992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31080" y="6485040"/>
            <a:ext cx="971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Gr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Giving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4121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structions can be given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essing a but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agging your m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riting commando'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Instructions with a mo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5440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the remote control in RoboMind </a:t>
            </a:r>
            <a:br>
              <a:rPr sz="3200"/>
            </a:br>
            <a:r>
              <a:rPr b="0" lang="en-GB" sz="2400" spc="-1" strike="noStrike">
                <a:solidFill>
                  <a:srgbClr val="666699"/>
                </a:solidFill>
                <a:latin typeface="Tahoma"/>
              </a:rPr>
              <a:t>(Execute &gt; Remote Control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lick the buttons to make the robot 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ercise: Try to make the robot drive a small 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19840" y="1600200"/>
            <a:ext cx="278136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riting instruc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ou can also writ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ving can be done with the commands: </a:t>
            </a:r>
            <a:br>
              <a:rPr sz="3200"/>
            </a:br>
            <a:r>
              <a:rPr b="1" lang="en-GB" sz="2600" spc="-1" strike="noStrike">
                <a:solidFill>
                  <a:srgbClr val="000000"/>
                </a:solidFill>
                <a:latin typeface="Courier New"/>
              </a:rPr>
              <a:t>forward(1), backward(1), left(), right(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886200"/>
            <a:ext cx="2057400" cy="1143000"/>
          </a:xfrm>
          <a:prstGeom prst="wedgeRoundRectCallout">
            <a:avLst>
              <a:gd name="adj1" fmla="val 100013"/>
              <a:gd name="adj2" fmla="val 4382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Write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618160"/>
            <a:ext cx="1828800" cy="1143000"/>
          </a:xfrm>
          <a:prstGeom prst="wedgeRoundRectCallout">
            <a:avLst>
              <a:gd name="adj1" fmla="val 79694"/>
              <a:gd name="adj2" fmla="val 1120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lick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43800" y="4464000"/>
            <a:ext cx="1828800" cy="1143000"/>
          </a:xfrm>
          <a:prstGeom prst="wedgeRoundRectCallout">
            <a:avLst>
              <a:gd name="adj1" fmla="val -103254"/>
              <a:gd name="adj2" fmla="val 220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See th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240" y="109080"/>
            <a:ext cx="7472520" cy="10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Example: Squa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e the following movement instru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514600"/>
            <a:ext cx="2971800" cy="3886200"/>
          </a:xfrm>
          <a:custGeom>
            <a:avLst/>
            <a:gdLst>
              <a:gd name="textAreaLeft" fmla="*/ 360 w 2971800"/>
              <a:gd name="textAreaRight" fmla="*/ 2971440 w 2971800"/>
              <a:gd name="textAreaTop" fmla="*/ 360 h 3886200"/>
              <a:gd name="textAreaBottom" fmla="*/ 3885840 h 3886200"/>
            </a:gdLst>
            <a:ahLst/>
            <a:rect l="textAreaLeft" t="textAreaTop" r="textAreaRight" b="textAreaBottom"/>
            <a:pathLst>
              <a:path w="21600" h="28245">
                <a:moveTo>
                  <a:pt x="11" y="0"/>
                </a:moveTo>
                <a:arcTo wR="11" hR="11" stAng="16200000" swAng="-5400000"/>
                <a:lnTo>
                  <a:pt x="0" y="28234"/>
                </a:lnTo>
                <a:arcTo wR="11" hR="11" stAng="10800000" swAng="-5400000"/>
                <a:lnTo>
                  <a:pt x="21589" y="28245"/>
                </a:lnTo>
                <a:arcTo wR="11" hR="11" stAng="5400000" swAng="-5400000"/>
                <a:lnTo>
                  <a:pt x="21600" y="11"/>
                </a:lnTo>
                <a:arcTo wR="11" hR="11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658960"/>
            <a:ext cx="343044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orwar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igh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86400" y="4456080"/>
            <a:ext cx="1424160" cy="148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6172200" y="3427560"/>
            <a:ext cx="1440" cy="91728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200400"/>
            <a:ext cx="1828800" cy="144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81960" y="3429000"/>
            <a:ext cx="1800" cy="182880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084800" y="5486400"/>
            <a:ext cx="1145880" cy="1440"/>
          </a:xfrm>
          <a:prstGeom prst="line">
            <a:avLst/>
          </a:prstGeom>
          <a:ln w="91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297180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7240" y="297180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47240" y="5240160"/>
            <a:ext cx="457200" cy="457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6512040"/>
            <a:ext cx="9558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666699"/>
                </a:solidFill>
                <a:latin typeface="Arial"/>
              </a:rPr>
              <a:t>Scrip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154080"/>
            <a:ext cx="7472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Writing seems slow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riting instructions seems to be more work than using the remot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ever, it is more convenient if you want to automate the process of giving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You can execute the instructions more than once, without writing the script again or clicking the buttons on the remot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63640" indent="-287280">
              <a:lnSpc>
                <a:spcPct val="10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ecution goes faster. You don't have to find the buttons for giving instruc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vid Halma</dc:creator>
  <dc:description/>
  <dc:language>en-US</dc:language>
  <cp:lastModifiedBy>Arvid Halma</cp:lastModifiedBy>
  <cp:revision>0</cp:revision>
  <dc:subject/>
  <dc:title/>
</cp:coreProperties>
</file>